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DD7-86F7-45C6-9AA3-659A93E6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D29-627F-44E7-9A0C-5460776D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485-8F5D-4DE3-9DC7-A36E0DEE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1DF-98CB-4C80-BBA0-937C792B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300D-7DBF-4FEB-B6D5-01C41A50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AE1B-53A8-40CC-8135-0084564B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BA29-58C9-4599-96E1-3C1C3916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2C96-BD79-4F24-9CCD-E1416EE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0FB9-E84F-4A04-9463-DD5B7590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4244-80AF-445F-92CB-95A86377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B860-22DA-4CF5-873A-A5B535E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80C-620B-49C0-883B-BEDABBB3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905F-A4EF-493A-8560-54C820F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9A30-FC4A-49E8-B738-763EEEBD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8AC1-B0AE-4EDA-B298-FFD86806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D723-70C5-492E-8367-BCD86B19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166D-0D88-49F9-9C3B-B783FA52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626-20B6-494A-B8B1-6361682E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7A4-29D2-4744-AFA7-EE4E4975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F21-FC42-43BE-8348-E6113AD8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63B-89FF-408E-9081-ACCBBC89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7F6-DA64-427C-89EF-FB68CA1D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B00-6890-4FB3-A514-589C150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3FD-99AF-40A8-8040-585936BB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6708-12DF-40BC-ADDB-64089ADA31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50DF-E6E7-4F87-B738-9C2A67F8825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y H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op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osing effective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s Cited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le and Unreliable Qu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our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e today: 2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 partner, answer the following questions for each of your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is the auth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did you get it fr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it have a d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tit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genre of writing is thi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py HW due FRIDA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reliable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e journals for each source w/ 2 quo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s Cited Entry for e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s Practice: Re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p. 23 of LA You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p. 614-615 in Literature Books, create the Works Cited Ent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thesis below, find 3 quotes that support the thesis.  Create a response journal for the quo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is: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order to prevent teen pregnancy, adults should place an emphasis on sex education and the reality behind being a teen m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down 3 questions you have for Gabby about her situ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any sources that Gabrielle refers to in her paper.  How did these sources support her stan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cratic Discuss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esearch Pape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liable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Written Reliable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ary vide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s media cl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 inter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reliab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mand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ure you can identify the type of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02:15Z</dcterms:created>
  <dc:creator>Tucker</dc:creator>
  <dc:description/>
  <dc:language>en-US</dc:language>
  <cp:lastModifiedBy>Tucker</cp:lastModifiedBy>
  <dcterms:modified xsi:type="dcterms:W3CDTF">2010-05-13T20:29:04Z</dcterms:modified>
  <cp:revision>2</cp:revision>
  <dc:subject/>
  <dc:title>Slide 1</dc:title>
</cp:coreProperties>
</file>